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3E47-2A72-4A9C-9617-D170DBBB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32E-5BB7-4B6C-8047-044BB2B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30D-BC42-4332-9AEE-3CAE58FA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6C8F-477F-4D5F-8A35-D2B566C6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66F9-3C82-4A36-B514-9CE79DA1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B01E-3629-4344-892A-21B49F1B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3115-2F08-42A9-8BFD-17136BA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9261-7DE9-4BEF-8FF0-A84EB049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0156-F7E7-4078-9E0F-89C6227F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D880-D635-4019-BE8D-286D394F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FBE5-7E67-48AE-9871-A7752179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2D0-40F8-481A-A97C-D1909B47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E54-6EE7-4E40-B957-8500F546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34D6-0AA6-43D1-8C55-D49B741C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0D02-BFA7-4F7F-BE99-C70805C7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3DF6-9BCC-4CD3-98EB-FBF6962E0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3A5D-8A48-45B3-94C0-AC0DB5B6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1C2-69D6-471D-8665-385096EB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170-F62D-409B-8F73-182311B6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4D58-D03F-465C-B9A6-DA62C141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262-E5F5-4FEE-92C5-9C156296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2DC-C65F-4AE6-B7E0-3E037C08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1A0-2FCD-4A60-8B5D-6ACEE57B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1E29-90FC-4B25-A46D-B959BE77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322C-DAEF-444A-A067-965D36B29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D917-2EBE-40D3-B6D4-DBB9F1F30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audio" Target="../media/jeop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8560" y="152388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114800" y="1752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866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92360" y="17524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1676520" y="2438280"/>
            <a:ext cx="556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ars spend th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nter in one of these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892320" y="3048120"/>
            <a:ext cx="11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72680" y="2666880"/>
            <a:ext cx="5837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ter is an example of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state of matter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516120" y="297180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775520" y="2362320"/>
            <a:ext cx="524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ce is an example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state of matt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657600" y="30481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855080" y="2209680"/>
            <a:ext cx="5787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you heat a soli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ch  as plastic, thi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ll happen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287520" y="2819520"/>
            <a:ext cx="21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lt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850400" y="2133720"/>
            <a:ext cx="5330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freezes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es  it expan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r contract?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516480" y="2895480"/>
            <a:ext cx="20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p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990720" y="243828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appear to sleep through the winter when they do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44880" y="2362320"/>
            <a:ext cx="621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evaporates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t forms this ga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971800" y="2514600"/>
            <a:ext cx="319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ater vapo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003760" y="2133720"/>
            <a:ext cx="4804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rn and peas ar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s of thes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 part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3665160" y="2743200"/>
            <a:ext cx="160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ed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157840" y="2514600"/>
            <a:ext cx="5109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ame two product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de from plant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858320" y="2590920"/>
            <a:ext cx="6057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dicines, clothing, oil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pices, lumber, rubber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per, et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19320" y="2286000"/>
            <a:ext cx="697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nts provide th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as that all human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eed to survive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439080" y="2743200"/>
            <a:ext cx="211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xyge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54720" y="2133720"/>
            <a:ext cx="5074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an importa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job bees have t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elp plants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4098960" y="24382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2912400" y="2590920"/>
            <a:ext cx="285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ollin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288600" y="320040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bern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2362320" y="19051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color or odor of  this part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plant attracts be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363480" y="2666880"/>
            <a:ext cx="19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low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304360" y="2286000"/>
            <a:ext cx="3733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oving air 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lled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577320" y="2590920"/>
            <a:ext cx="153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i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905840" y="2286000"/>
            <a:ext cx="444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ain, snow, hail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leet ar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xamples of this.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760480" y="2590920"/>
            <a:ext cx="32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recipit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621800" y="2209680"/>
            <a:ext cx="5415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water change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o water vapor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occurs.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985840" y="2666880"/>
            <a:ext cx="24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po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176120" y="2286000"/>
            <a:ext cx="7175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hot moist air rises a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ets cooler air, it form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ouds because of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3444120" y="2590920"/>
            <a:ext cx="269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dens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92840" y="2209680"/>
            <a:ext cx="7835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animals move to warm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as for  the winter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y do this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23200" y="2286000"/>
            <a:ext cx="6429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en there ha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ot been enough rainfall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occur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3136320" y="2666880"/>
            <a:ext cx="221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rough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535480" y="2133720"/>
            <a:ext cx="40075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the firs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tage of th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's lif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17080" y="259092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852920" y="2362320"/>
            <a:ext cx="4803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tage of frog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tween the eg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he adult frog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499200" y="2819520"/>
            <a:ext cx="16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dpo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776240" y="2590920"/>
            <a:ext cx="47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adpoles live 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environment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2960640" y="2666880"/>
            <a:ext cx="382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hallow Wat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544400" y="2362320"/>
            <a:ext cx="54979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the differen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etween the feet of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ads and frogs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2756160" y="2590920"/>
            <a:ext cx="312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s' feet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re webbed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914400" y="274320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505320" y="2895480"/>
            <a:ext cx="213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igr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744640" y="2438280"/>
            <a:ext cx="356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rogs do thi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winter.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3364920" y="251460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berna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533320" y="2057400"/>
            <a:ext cx="436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dependenc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living things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ans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1475640" y="2209680"/>
            <a:ext cx="5514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iving things depend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n other living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ngs to liv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905120" y="2286000"/>
            <a:ext cx="573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living in the polar regions are often this color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437280" y="3048120"/>
            <a:ext cx="167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7040" y="2514600"/>
            <a:ext cx="627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imals blend into thei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rroundings because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f this.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910960" y="2743200"/>
            <a:ext cx="316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amoufl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Donna Christian</cp:lastModifiedBy>
  <dcterms:modified xsi:type="dcterms:W3CDTF">2009-12-13T20:40:59Z</dcterms:modified>
  <cp:revision>21</cp:revision>
  <dc:subject/>
  <dc:title>Jeopardy</dc:title>
</cp:coreProperties>
</file>